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03D6-EB19-4F78-8E28-0AD3F8F8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84A-F050-4CD8-9DB1-D34EF216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38B-4713-417B-960A-ADBCE37F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55F-89AE-43A4-9E68-F6072262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BE18C-F170-4B7D-9D5D-11168C3A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2EB6D-3FF0-42E7-BAE0-DE6159AA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4633A-9B7A-4BE1-8528-10E5C835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D22DB-53AC-4589-8D46-C4E0A408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1FF33-66B9-49D9-B4B7-80F69940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CC6AF-040F-43F5-81EB-6DDF4A14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91528-5770-4F19-BBA6-366CBED3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E64E-6E53-47ED-AF61-4DF2AE32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FD282-05FE-4DA9-AAA7-BA6F6B09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4456D-9EC0-4483-B413-69ECB6F4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3EA3EC-7210-43DD-A74B-7395DD89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3ECF8-4FCA-4C55-8DEB-5226093C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C0F3F-DA85-46F9-A9ED-EA32271C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31EA-3DC0-4E80-8D2D-8FBBF91E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B65-6D1D-4594-8ECD-83D47AC2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B3F-DEE2-4301-BD73-1CA54F9D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B15D-53A1-4C9C-9072-949E8288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D5D8-8491-4E85-A0AE-B923E917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4F09-963D-4A7F-9E28-AEC948C5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8109-6A5B-44C8-A00E-021D6457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C17E-5A14-4477-AA0F-A4E8FD1ECB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4AEB-05DD-45E4-B959-A55F7A27AE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ls/GOVK12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fessional athle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tyron sn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w you would practice 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takes hard practic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able to work with a tea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 on your jump shot and drib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le to play in front of a crow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to make it from grade school to college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ould play on the middle school team when you are in the 4 or the 5 grade.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ould play with people that you know that you will not win  that eas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school wise you need to graduate  from high schoo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ew rule that just had been past is that if you go to college  you a least need two years of college and tying to get a degree in a job just incase it does not work o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the chance of you getting this job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hance of you getting this job one and the million but, if you work hard you can make i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e much does the job   p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job pays 51,000 dollars + a sign bonus with the team you play for of 50,000 .  The pay for this job is also on your talent  . How well you can  work on a team. Extra : in a year a professional sports player earns a million doll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ere do  have to go  to schoo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would have to a school that is four yea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also  the schools have to have a sports team that you like to go pro wi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RE WOULD I GO TO SCHOL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OULD GO TO TENNESE  COLLGE FOR 4 YEARS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OULD ALSO PLAY BASKETBALL FOR THERE TEA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IF I DID GO TO THE NBA  , I WOUL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Y FOR THE LAK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5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5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5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5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5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F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GOT ALL MT INFO FROM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WWW.BLS/GOVK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MY BR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8:17:21Z</dcterms:created>
  <dc:creator>Tyron.Snead</dc:creator>
  <dc:description/>
  <dc:language>en-US</dc:language>
  <cp:lastModifiedBy>Tyron.Snead</cp:lastModifiedBy>
  <dcterms:modified xsi:type="dcterms:W3CDTF">2008-05-01T18:44:36Z</dcterms:modified>
  <cp:revision>4</cp:revision>
  <dc:subject/>
  <dc:title>Professional athlete</dc:title>
</cp:coreProperties>
</file>